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95D-927D-4F26-963E-35C85F77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9763-B34B-4FFF-A644-D5CB930F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D7E8-8697-405F-9B60-30FC6DA5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2DB0-91FE-484D-9236-3F001CBC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5B88-BDD9-4D76-9AC1-63AC38E1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DAB4-26F8-4B2B-9B5F-963B1305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F0BC-EE99-47E4-8153-6F30AC38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E9CC-11D5-46BD-A6A4-86D1ED01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7ABE-F176-4F5A-B5A3-43809C38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E39B-079E-4A68-93F8-AF0CF897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6C2D-97C0-4983-8D8D-94563505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9F16-B13A-4AD0-8FDB-B6E06FFC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4C44-A7FF-4567-B39F-E8B04BA8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FA4E-4E18-4550-B6E6-55E5F63F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414F-35F2-4524-A7AF-58486102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F299-0B7C-41EC-A996-667084D2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9888-45E9-4A88-9061-0B6EE041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6789-2F2C-4896-BAD8-B8D76C1C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8D87-667E-44D2-ABB9-51BCECB3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3532-3060-44B6-9E3F-2F4ABA73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BC30-885E-4912-89A6-1FC36F44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88B2-47E1-4883-9F8B-EE190637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74CD-5F4B-4A65-AEA5-4FDA81B0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9058-1ABC-4DC4-A0C1-978DE923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BD3A-71A0-436A-B607-306ABEEC7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6679-39C1-4E4B-8539-DAE4B9BDCD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South, Southeast, and East Asia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915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any newly industrialized countries--South Korea, Taiwan, Singapo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Japan is the economic leader of the are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ina is in a transition period--from a centrally planned economy to more of a tradition free market econom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gricultural advancements and technology are enabling greater food production-- “Green Revolution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nvironmental degrad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efores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ishing is importa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any countries are members of the Association of Southeast Asian Nations (ASEAN) which was set up with the 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ain crops are rice and tropical crops such as banan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ultural Characteristic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reas of extremely dense and sparse popul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evere contrast between rural and urban are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erious religious conflicts--primarily between Hindus and Musli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eep respect for ancesto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Religious diversity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-Hinduism, Islam, Buddhism, Christianity, Taoism, Shinto, Confucianism are the major relig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696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dia has a strict caste system--(similar to a class structure)  once born into a caste it is next to impossible to move out of that cast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Cultural herit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il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ati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ood and ivory carv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deograms--unique alphab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jewe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Important cities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-Tokyo, Japan; Beijing, China; New Delhi,Ind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46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Cultural landscap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-Taj Mahal, Angkor Wat, Great Wall of China, floating markets, mosques,minarets, pagodas, temples and shrines, terraced rice fiel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gkor W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Picture 8" descr="Angkor Wat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hysical Characteristic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ountains influence the reg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pulation settlement pattern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ility of people to mo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gkor W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Picture 7" descr="AngkorWat2"/>
          <p:cNvPicPr/>
          <p:nvPr/>
        </p:nvPicPr>
        <p:blipFill>
          <a:blip r:embed="rId1"/>
          <a:stretch/>
        </p:blipFill>
        <p:spPr>
          <a:xfrm>
            <a:off x="304920" y="914400"/>
            <a:ext cx="8839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Great Wall of Chin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Picture 8" descr="Great Wall of China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aj Mahal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Picture 12" descr="Taj Mahal2"/>
          <p:cNvPicPr/>
          <p:nvPr/>
        </p:nvPicPr>
        <p:blipFill>
          <a:blip r:embed="rId1"/>
          <a:stretch/>
        </p:blipFill>
        <p:spPr>
          <a:xfrm>
            <a:off x="304920" y="990720"/>
            <a:ext cx="83055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aj Mahal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Picture 6" descr="Taj Mahal"/>
          <p:cNvPicPr/>
          <p:nvPr/>
        </p:nvPicPr>
        <p:blipFill>
          <a:blip r:embed="rId1"/>
          <a:stretch/>
        </p:blipFill>
        <p:spPr>
          <a:xfrm>
            <a:off x="304920" y="1371600"/>
            <a:ext cx="8839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ti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Picture 6" descr="Batik"/>
          <p:cNvPicPr/>
          <p:nvPr/>
        </p:nvPicPr>
        <p:blipFill>
          <a:blip r:embed="rId1"/>
          <a:stretch/>
        </p:blipFill>
        <p:spPr>
          <a:xfrm>
            <a:off x="762120" y="100656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Himalaya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Picture 6" descr="Himalayas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unt Fuj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Picture 6" descr="Himalayas2"/>
          <p:cNvPicPr/>
          <p:nvPr/>
        </p:nvPicPr>
        <p:blipFill>
          <a:blip r:embed="rId1"/>
          <a:stretch/>
        </p:blipFill>
        <p:spPr>
          <a:xfrm>
            <a:off x="0" y="998640"/>
            <a:ext cx="891540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unt Fuji—outside of Toky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6" name="Picture 6" descr="Mount Fuji2"/>
          <p:cNvPicPr/>
          <p:nvPr/>
        </p:nvPicPr>
        <p:blipFill>
          <a:blip r:embed="rId1"/>
          <a:stretch/>
        </p:blipFill>
        <p:spPr>
          <a:xfrm>
            <a:off x="304920" y="1143000"/>
            <a:ext cx="861048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t. Fuj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" name="Picture 6" descr="Mount Fuji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imalayas—Mt. Evere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0" name="Picture 6" descr="Mt"/>
          <p:cNvPicPr/>
          <p:nvPr/>
        </p:nvPicPr>
        <p:blipFill>
          <a:blip r:embed="rId1"/>
          <a:stretch/>
        </p:blipFill>
        <p:spPr>
          <a:xfrm>
            <a:off x="685800" y="1363680"/>
            <a:ext cx="7924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990360"/>
            <a:ext cx="8007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ounta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malay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ern and Eastern Gha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unt Fuji-Jap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Gobi Desert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2" name="Picture 6" descr="Gobi Desert"/>
          <p:cNvPicPr/>
          <p:nvPr/>
        </p:nvPicPr>
        <p:blipFill>
          <a:blip r:embed="rId1"/>
          <a:stretch/>
        </p:blipFill>
        <p:spPr>
          <a:xfrm>
            <a:off x="152280" y="581040"/>
            <a:ext cx="876312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uddh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4" name="Picture 5" descr="Buddha"/>
          <p:cNvPicPr/>
          <p:nvPr/>
        </p:nvPicPr>
        <p:blipFill>
          <a:blip r:embed="rId1"/>
          <a:stretch/>
        </p:blipFill>
        <p:spPr>
          <a:xfrm>
            <a:off x="304920" y="112068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uddha in New Delhi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Picture 6" descr="Buddha in New Delhi"/>
          <p:cNvPicPr/>
          <p:nvPr/>
        </p:nvPicPr>
        <p:blipFill>
          <a:blip r:embed="rId1"/>
          <a:stretch/>
        </p:blipFill>
        <p:spPr>
          <a:xfrm>
            <a:off x="1905120" y="1905120"/>
            <a:ext cx="58719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hinto Shrin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8" name="Picture 7" descr="Shinto shrine"/>
          <p:cNvPicPr/>
          <p:nvPr/>
        </p:nvPicPr>
        <p:blipFill>
          <a:blip r:embed="rId1"/>
          <a:stretch/>
        </p:blipFill>
        <p:spPr>
          <a:xfrm>
            <a:off x="228600" y="1154160"/>
            <a:ext cx="868680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empl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0" name="Picture 5" descr="temp"/>
          <p:cNvPicPr/>
          <p:nvPr/>
        </p:nvPicPr>
        <p:blipFill>
          <a:blip r:embed="rId1"/>
          <a:stretch/>
        </p:blipFill>
        <p:spPr>
          <a:xfrm>
            <a:off x="380880" y="838080"/>
            <a:ext cx="8458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agod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2" name="Picture 6" descr="j0345961"/>
          <p:cNvPicPr/>
          <p:nvPr/>
        </p:nvPicPr>
        <p:blipFill>
          <a:blip r:embed="rId1"/>
          <a:stretch/>
        </p:blipFill>
        <p:spPr>
          <a:xfrm>
            <a:off x="304920" y="1143000"/>
            <a:ext cx="8381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agod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4" name="Picture 4" descr="2zg3qxbh[1]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empl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6" name="Picture 4" descr="temp2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Varied climate region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-ranging from tropical wet to humid continent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any natural hazard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-monsoons, typhoons, volcanoes, and earthquak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7720" y="228240"/>
            <a:ext cx="8001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onso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-a seasonal shift in the prevailing winds that influences large climate reg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Typho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-a destructive tropical storm occurring in the western Pacific Ocean or the China Sea, similar to a hurrica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1371600"/>
            <a:ext cx="8991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Influence of wate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-(rivers, seas, and ocean currents) on agriculture, trade, and transpor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88455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Important bodies of wate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-Arabian Sea, Indian Ocean, Bay of Bengal, Ganges River, Indus River, Brahmaputra River, Pacific Ocean, Yangtze River (Chaing Jiang), Mekong River, Yellow River (Huang H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rea have abundant arable la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reas of lo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lateau of Tibet hard to live 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obi Desert--second largest in the worl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conomic Characteristic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aried economies in the region ranging from subsistence/commercial agriculture to high-tech industrial manufactur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ctive participation in global mar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6T21:39:17Z</dcterms:created>
  <dc:creator>Newport News</dc:creator>
  <dc:description/>
  <dc:language>en-US</dc:language>
  <cp:lastModifiedBy>WENDY</cp:lastModifiedBy>
  <dcterms:modified xsi:type="dcterms:W3CDTF">2011-04-06T01:31:19Z</dcterms:modified>
  <cp:revision>12</cp:revision>
  <dc:subject/>
  <dc:title>South, Southeast, and East Asia</dc:title>
</cp:coreProperties>
</file>